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7A31-0A02-4CD5-A159-A0171EF0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451-6E89-46F3-B5EC-6409F1A0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4E4-C4CC-4EA4-A121-942BBA9E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982-726D-4A27-B82F-F1F9EC17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C4AF-C11D-48F5-AEE3-7310F6B5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730-CA50-4359-A922-DF8A3435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67A4-66CE-431A-BCEC-C9E6DF78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4A34-781F-4895-A6AD-366047F6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AC0D-1F16-45E8-9845-4E8ABA0A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B976-DE92-4A90-AF6B-1FBDB7D1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3BF4-AE6B-4490-BF53-D5172593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576-515C-4E1F-AA01-5147944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B146-32C8-4065-9E42-0AB1DE1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B92E-2A45-4753-8DF6-0A518444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77F8-DF6D-40AD-B83E-12565DF8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5475-8BF4-4955-B437-10B79ADB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B056-F0BC-449E-AC3C-59D3C280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AB89-8828-46F3-8BD9-4DD47C2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CF3-34F1-4659-AF26-99E2ECFE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2DF-4283-421A-941F-713961F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7CE-B6CD-4EDB-9F9C-4DA03D92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5DE-E975-4D61-9FE9-AEFAD59D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9BF-FF10-47AC-A5DB-CE2FDF78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B7A-7F22-4894-8F3F-8CB786D2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87237E-C1EF-437A-8C40-7703F74E921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F2C0F-F601-4FFD-9922-425B8A12C6F4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D7DB8-CAAB-4098-9AD8-27E2B904B78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3CB9D-6C2D-4B8B-B0EE-D3C4870FEBD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Templat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Miscellaneous: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" y="2590920"/>
            <a:ext cx="822960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Keith or Sherri Holmgren</cp:lastModifiedBy>
  <dcterms:modified xsi:type="dcterms:W3CDTF">2012-05-11T23:11:30Z</dcterms:modified>
  <cp:revision>1</cp:revision>
  <dc:subject/>
  <dc:title>Animal Phyla Chart</dc:title>
</cp:coreProperties>
</file>